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FD-6189-4707-96FB-C55DCD0D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EE1-9626-4864-BAF8-E132AAF1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EE5-08EC-4ED8-8C16-552818DF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572-867C-4DF7-AF7C-DE05B2D8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D0F-6AB0-4987-B541-80FF8B45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803-B52B-4210-9AE8-B1F152D0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AAC-4B22-425C-ACE1-2F2E9F9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DE5-80A9-4535-B202-BF92EDB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829-56D5-407A-9849-D09A0CF9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7ED-7831-4A72-8D6B-1389750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EBB-C785-4CEE-9AEF-7CF0080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E39-488E-4154-8FB5-629BD594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613-1336-4CA6-ACCA-17942515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2482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Lucida Sans"/>
              </a:rPr>
              <a:t>Do Activity 5.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Different Symb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0880" y="1157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tatistic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Parameter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Measures?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80880" y="198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proportion/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28335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     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eans/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09480" y="19810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596880" y="28954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380880" y="35812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864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223, read Example 5.8 (goes onto page 224) and answer the questions in th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8600" y="6858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give us different results, even if they are from the sam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" y="26049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8600" y="3274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Sampling Distribution = histogram of lots of samples of the sam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16444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* 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5257800" y="2590920"/>
            <a:ext cx="3733920" cy="2090160"/>
            <a:chOff x="5257800" y="2590920"/>
            <a:chExt cx="3733920" cy="2090160"/>
          </a:xfrm>
        </p:grpSpPr>
        <p:grpSp>
          <p:nvGrpSpPr>
            <p:cNvPr id="85" name="Group 2"/>
            <p:cNvGrpSpPr/>
            <p:nvPr/>
          </p:nvGrpSpPr>
          <p:grpSpPr>
            <a:xfrm>
              <a:off x="6095880" y="2590920"/>
              <a:ext cx="1905120" cy="1828800"/>
              <a:chOff x="6095880" y="2590920"/>
              <a:chExt cx="1905120" cy="1828800"/>
            </a:xfrm>
          </p:grpSpPr>
          <p:sp>
            <p:nvSpPr>
              <p:cNvPr id="86" name="Rectangle 13"/>
              <p:cNvSpPr/>
              <p:nvPr/>
            </p:nvSpPr>
            <p:spPr>
              <a:xfrm>
                <a:off x="6858000" y="2590920"/>
                <a:ext cx="380880" cy="1600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4"/>
              <p:cNvSpPr/>
              <p:nvPr/>
            </p:nvSpPr>
            <p:spPr>
              <a:xfrm>
                <a:off x="7238880" y="3124080"/>
                <a:ext cx="380880" cy="1066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5"/>
              <p:cNvSpPr/>
              <p:nvPr/>
            </p:nvSpPr>
            <p:spPr>
              <a:xfrm>
                <a:off x="6476760" y="3276720"/>
                <a:ext cx="38088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6"/>
              <p:cNvSpPr/>
              <p:nvPr/>
            </p:nvSpPr>
            <p:spPr>
              <a:xfrm>
                <a:off x="7620120" y="381024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6095880" y="3657600"/>
                <a:ext cx="38088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2"/>
              <p:cNvSpPr/>
              <p:nvPr/>
            </p:nvSpPr>
            <p:spPr>
              <a:xfrm flipV="1">
                <a:off x="7010280" y="40388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8"/>
            <p:cNvSpPr/>
            <p:nvPr/>
          </p:nvSpPr>
          <p:spPr>
            <a:xfrm>
              <a:off x="5257800" y="434376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304920" y="2590920"/>
            <a:ext cx="4190760" cy="2090160"/>
            <a:chOff x="304920" y="2590920"/>
            <a:chExt cx="4190760" cy="2090160"/>
          </a:xfrm>
        </p:grpSpPr>
        <p:sp>
          <p:nvSpPr>
            <p:cNvPr id="95" name="Rectangle 3"/>
            <p:cNvSpPr/>
            <p:nvPr/>
          </p:nvSpPr>
          <p:spPr>
            <a:xfrm>
              <a:off x="2209680" y="259092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2590920" y="281952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1828800" y="281952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2971800" y="312408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447920" y="312408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352680" y="358164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1066680" y="358164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3733920" y="388620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685800" y="388620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2362320" y="4038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7"/>
            <p:cNvSpPr/>
            <p:nvPr/>
          </p:nvSpPr>
          <p:spPr>
            <a:xfrm>
              <a:off x="609480" y="434376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0"/>
            <p:cNvSpPr/>
            <p:nvPr/>
          </p:nvSpPr>
          <p:spPr>
            <a:xfrm>
              <a:off x="4114800" y="403884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304920" y="403884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533520" y="166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Errors: Bias vs. Var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825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consistent, repeated measurements that are not close to the population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03360" y="23907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how spread out the values a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33520" y="152280"/>
            <a:ext cx="7924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33520" y="36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ge 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360" y="5331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Bias is accura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Variability is the rel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le 2"/>
          <p:cNvSpPr/>
          <p:nvPr/>
        </p:nvSpPr>
        <p:spPr>
          <a:xfrm>
            <a:off x="3011400" y="34920"/>
            <a:ext cx="420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ias vs. Var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2219400" y="1676520"/>
            <a:ext cx="5857920" cy="5062320"/>
            <a:chOff x="2219400" y="1676520"/>
            <a:chExt cx="5857920" cy="5062320"/>
          </a:xfrm>
        </p:grpSpPr>
        <p:pic>
          <p:nvPicPr>
            <p:cNvPr id="120" name="Picture 5" descr=""/>
            <p:cNvPicPr/>
            <p:nvPr/>
          </p:nvPicPr>
          <p:blipFill>
            <a:blip r:embed="rId1"/>
            <a:stretch/>
          </p:blipFill>
          <p:spPr>
            <a:xfrm>
              <a:off x="2240280" y="4258800"/>
              <a:ext cx="2614320" cy="24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2"/>
            <a:stretch/>
          </p:blipFill>
          <p:spPr>
            <a:xfrm>
              <a:off x="2219400" y="1676520"/>
              <a:ext cx="2550960" cy="25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"/>
            <p:cNvPicPr/>
            <p:nvPr/>
          </p:nvPicPr>
          <p:blipFill>
            <a:blip r:embed="rId3"/>
            <a:stretch/>
          </p:blipFill>
          <p:spPr>
            <a:xfrm>
              <a:off x="5273640" y="1706400"/>
              <a:ext cx="2379600" cy="25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4"/>
            <a:stretch/>
          </p:blipFill>
          <p:spPr>
            <a:xfrm>
              <a:off x="5024520" y="4169880"/>
              <a:ext cx="3052800" cy="256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1066680" y="838080"/>
            <a:ext cx="4572000" cy="2166120"/>
            <a:chOff x="1066680" y="838080"/>
            <a:chExt cx="4572000" cy="2166120"/>
          </a:xfrm>
        </p:grpSpPr>
        <p:sp>
          <p:nvSpPr>
            <p:cNvPr id="126" name="Rectangle 3"/>
            <p:cNvSpPr/>
            <p:nvPr/>
          </p:nvSpPr>
          <p:spPr>
            <a:xfrm>
              <a:off x="4114800" y="83808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3733560" y="106668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4495680" y="137124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4876920" y="18288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3352680" y="18288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2971800" y="21337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1066680" y="2666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0"/>
            <p:cNvSpPr/>
            <p:nvPr/>
          </p:nvSpPr>
          <p:spPr>
            <a:xfrm>
              <a:off x="5257800" y="22860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2590560" y="22860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 flipV="1">
              <a:off x="27432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3"/>
          <p:cNvGrpSpPr/>
          <p:nvPr/>
        </p:nvGrpSpPr>
        <p:grpSpPr>
          <a:xfrm>
            <a:off x="304920" y="3809880"/>
            <a:ext cx="7924680" cy="2090160"/>
            <a:chOff x="304920" y="3809880"/>
            <a:chExt cx="7924680" cy="2090160"/>
          </a:xfrm>
        </p:grpSpPr>
        <p:sp>
          <p:nvSpPr>
            <p:cNvPr id="137" name="Text Box 25"/>
            <p:cNvSpPr/>
            <p:nvPr/>
          </p:nvSpPr>
          <p:spPr>
            <a:xfrm>
              <a:off x="304920" y="495288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403848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3657600" y="4038480"/>
              <a:ext cx="380880" cy="137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327672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6"/>
            <p:cNvSpPr/>
            <p:nvPr/>
          </p:nvSpPr>
          <p:spPr>
            <a:xfrm>
              <a:off x="251460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137160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426744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2514600" y="556272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1"/>
            <p:cNvSpPr/>
            <p:nvPr/>
          </p:nvSpPr>
          <p:spPr>
            <a:xfrm>
              <a:off x="60948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52"/>
            <p:cNvGrpSpPr/>
            <p:nvPr/>
          </p:nvGrpSpPr>
          <p:grpSpPr>
            <a:xfrm>
              <a:off x="4800600" y="4038480"/>
              <a:ext cx="3429000" cy="1371960"/>
              <a:chOff x="4800600" y="4038480"/>
              <a:chExt cx="3429000" cy="1371960"/>
            </a:xfrm>
          </p:grpSpPr>
          <p:sp>
            <p:nvSpPr>
              <p:cNvPr id="147" name="Rectangle 31"/>
              <p:cNvSpPr/>
              <p:nvPr/>
            </p:nvSpPr>
            <p:spPr>
              <a:xfrm>
                <a:off x="480060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3"/>
              <p:cNvSpPr/>
              <p:nvPr/>
            </p:nvSpPr>
            <p:spPr>
              <a:xfrm>
                <a:off x="594360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35"/>
              <p:cNvSpPr/>
              <p:nvPr/>
            </p:nvSpPr>
            <p:spPr>
              <a:xfrm>
                <a:off x="670572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37"/>
              <p:cNvSpPr/>
              <p:nvPr/>
            </p:nvSpPr>
            <p:spPr>
              <a:xfrm>
                <a:off x="746784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30"/>
              <p:cNvSpPr/>
              <p:nvPr/>
            </p:nvSpPr>
            <p:spPr>
              <a:xfrm>
                <a:off x="7848720" y="5258160"/>
                <a:ext cx="3808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3"/>
              <p:cNvSpPr/>
              <p:nvPr/>
            </p:nvSpPr>
            <p:spPr>
              <a:xfrm>
                <a:off x="708660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4"/>
              <p:cNvSpPr/>
              <p:nvPr/>
            </p:nvSpPr>
            <p:spPr>
              <a:xfrm>
                <a:off x="632448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45"/>
              <p:cNvSpPr/>
              <p:nvPr/>
            </p:nvSpPr>
            <p:spPr>
              <a:xfrm>
                <a:off x="556236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46"/>
              <p:cNvSpPr/>
              <p:nvPr/>
            </p:nvSpPr>
            <p:spPr>
              <a:xfrm>
                <a:off x="518148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Rectangle 31"/>
            <p:cNvSpPr/>
            <p:nvPr/>
          </p:nvSpPr>
          <p:spPr>
            <a:xfrm>
              <a:off x="99072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175248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213372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289548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441972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2514600" y="3809880"/>
            <a:ext cx="3733920" cy="2090160"/>
            <a:chOff x="2514600" y="3809880"/>
            <a:chExt cx="3733920" cy="2090160"/>
          </a:xfrm>
        </p:grpSpPr>
        <p:sp>
          <p:nvSpPr>
            <p:cNvPr id="164" name="Rectangle 30"/>
            <p:cNvSpPr/>
            <p:nvPr/>
          </p:nvSpPr>
          <p:spPr>
            <a:xfrm>
              <a:off x="411480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4496040" y="4038480"/>
              <a:ext cx="380880" cy="137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>
              <a:off x="373392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487692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335268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V="1">
              <a:off x="426708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7"/>
            <p:cNvSpPr/>
            <p:nvPr/>
          </p:nvSpPr>
          <p:spPr>
            <a:xfrm>
              <a:off x="2514600" y="556272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525780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"/>
          <p:cNvGrpSpPr/>
          <p:nvPr/>
        </p:nvGrpSpPr>
        <p:grpSpPr>
          <a:xfrm>
            <a:off x="304920" y="1143000"/>
            <a:ext cx="8915400" cy="2090160"/>
            <a:chOff x="304920" y="1143000"/>
            <a:chExt cx="8915400" cy="2090160"/>
          </a:xfrm>
        </p:grpSpPr>
        <p:sp>
          <p:nvSpPr>
            <p:cNvPr id="173" name="Text Box 25"/>
            <p:cNvSpPr/>
            <p:nvPr/>
          </p:nvSpPr>
          <p:spPr>
            <a:xfrm>
              <a:off x="304920" y="228600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5"/>
            <p:cNvSpPr/>
            <p:nvPr/>
          </p:nvSpPr>
          <p:spPr>
            <a:xfrm>
              <a:off x="4038840" y="114300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3657600" y="137160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7"/>
            <p:cNvSpPr/>
            <p:nvPr/>
          </p:nvSpPr>
          <p:spPr>
            <a:xfrm>
              <a:off x="3276720" y="167616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8"/>
            <p:cNvSpPr/>
            <p:nvPr/>
          </p:nvSpPr>
          <p:spPr>
            <a:xfrm>
              <a:off x="251460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9"/>
            <p:cNvSpPr/>
            <p:nvPr/>
          </p:nvSpPr>
          <p:spPr>
            <a:xfrm>
              <a:off x="1371600" y="243828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5486400" y="289584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09480" y="259092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2"/>
            <p:cNvGrpSpPr/>
            <p:nvPr/>
          </p:nvGrpSpPr>
          <p:grpSpPr>
            <a:xfrm>
              <a:off x="4800600" y="1371600"/>
              <a:ext cx="3429000" cy="1371600"/>
              <a:chOff x="4800600" y="1371600"/>
              <a:chExt cx="3429000" cy="1371600"/>
            </a:xfrm>
          </p:grpSpPr>
          <p:sp>
            <p:nvSpPr>
              <p:cNvPr id="182" name="Rectangle 59"/>
              <p:cNvSpPr/>
              <p:nvPr/>
            </p:nvSpPr>
            <p:spPr>
              <a:xfrm>
                <a:off x="4800600" y="1371600"/>
                <a:ext cx="380880" cy="1371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60"/>
              <p:cNvSpPr/>
              <p:nvPr/>
            </p:nvSpPr>
            <p:spPr>
              <a:xfrm>
                <a:off x="5943600" y="167616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61"/>
              <p:cNvSpPr/>
              <p:nvPr/>
            </p:nvSpPr>
            <p:spPr>
              <a:xfrm>
                <a:off x="6705720" y="2133720"/>
                <a:ext cx="3808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62"/>
              <p:cNvSpPr/>
              <p:nvPr/>
            </p:nvSpPr>
            <p:spPr>
              <a:xfrm>
                <a:off x="7467840" y="2438640"/>
                <a:ext cx="38088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0"/>
              <p:cNvSpPr/>
              <p:nvPr/>
            </p:nvSpPr>
            <p:spPr>
              <a:xfrm>
                <a:off x="7848720" y="2590920"/>
                <a:ext cx="3808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64"/>
              <p:cNvSpPr/>
              <p:nvPr/>
            </p:nvSpPr>
            <p:spPr>
              <a:xfrm>
                <a:off x="7086600" y="2438640"/>
                <a:ext cx="38088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5"/>
              <p:cNvSpPr/>
              <p:nvPr/>
            </p:nvSpPr>
            <p:spPr>
              <a:xfrm>
                <a:off x="6324480" y="2133720"/>
                <a:ext cx="3808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6"/>
              <p:cNvSpPr/>
              <p:nvPr/>
            </p:nvSpPr>
            <p:spPr>
              <a:xfrm>
                <a:off x="5562360" y="167616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7"/>
              <p:cNvSpPr/>
              <p:nvPr/>
            </p:nvSpPr>
            <p:spPr>
              <a:xfrm>
                <a:off x="5181480" y="1371600"/>
                <a:ext cx="380880" cy="1371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31"/>
            <p:cNvSpPr/>
            <p:nvPr/>
          </p:nvSpPr>
          <p:spPr>
            <a:xfrm>
              <a:off x="990720" y="259092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5"/>
            <p:cNvSpPr/>
            <p:nvPr/>
          </p:nvSpPr>
          <p:spPr>
            <a:xfrm>
              <a:off x="1752480" y="243828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6"/>
            <p:cNvSpPr/>
            <p:nvPr/>
          </p:nvSpPr>
          <p:spPr>
            <a:xfrm>
              <a:off x="213372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7"/>
            <p:cNvSpPr/>
            <p:nvPr/>
          </p:nvSpPr>
          <p:spPr>
            <a:xfrm>
              <a:off x="2895480" y="167616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8"/>
            <p:cNvSpPr/>
            <p:nvPr/>
          </p:nvSpPr>
          <p:spPr>
            <a:xfrm>
              <a:off x="4419720" y="114300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 flipV="1">
              <a:off x="723924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457200" y="609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0" y="1325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size doesn’t matter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0" y="205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&gt; 10*n   (10*sample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28656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As long as your sample is random, and your population is big enough, the population size doesn’t matter to the variability of the statistic (the spre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0" y="-20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ADD THIS TO YOUR NOTE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280" y="663480"/>
            <a:ext cx="8839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re are two local high schools, Central High and North High.  Central has 1,000 students and North has 3,500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A researcher wants to determine the average income for the families that send their students to the different high schoo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He has 2 different 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5%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100 students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80880" y="2438280"/>
            <a:ext cx="83822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Lucida Sans"/>
              </a:rPr>
              <a:t>5.2- par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52280" y="663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p. 234-235 #45 &amp; 4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100476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Try the HW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222 #28 ---- 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226 #33,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560" y="2286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that you want to make a conclusi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oes not necessarily have to be a lar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all group of the population that you do an experiment/study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fully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304920" y="3124080"/>
            <a:ext cx="8381880" cy="32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</a:t>
            </a:r>
            <a:r>
              <a:rPr b="1" lang="en-US" sz="3200" spc="-1" strike="noStrike">
                <a:solidFill>
                  <a:srgbClr val="000099"/>
                </a:solidFill>
                <a:latin typeface="Lucida Sans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Example: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verage math SAT score of CB South 2012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% of CBS 2012 seniors grad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90520" y="115920"/>
            <a:ext cx="838188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ar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</a:t>
            </a:r>
            <a:r>
              <a:rPr b="1" lang="en-US" sz="3200" spc="-1" strike="noStrike">
                <a:solidFill>
                  <a:srgbClr val="000099"/>
                </a:solidFill>
                <a:latin typeface="Lucida Sans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Example: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rue average math SA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rue % of graduating seniors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304920" y="2286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polling agency takes a sample of 1500 American citizens and asks them if they are lactose intolerant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2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y yes.  This is interesting, since it has been shown tha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5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f the population is lactose intole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2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5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80880" y="30492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1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22860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62673"/>
                </a:solidFill>
                <a:uFillTx/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An area high school boasts that 85% of all graduating seniors attend college after graduation. A local newspaper polls the next senior class and finds that 74% plan on attending college after gradu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73"/>
                </a:solidFill>
                <a:latin typeface="Lucida San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85% = 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74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457200"/>
            <a:ext cx="838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esearcher wants to find out which of two pain relievers works better.  He takes 100 people and randomly gives half of them medicine #1 and the other half medicine #2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? Sample? Parameter of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19:33Z</dcterms:created>
  <dc:creator>Lauren Senske</dc:creator>
  <dc:description/>
  <dc:language>en-US</dc:language>
  <cp:lastModifiedBy>Lauren McNelis</cp:lastModifiedBy>
  <dcterms:modified xsi:type="dcterms:W3CDTF">2012-03-22T12:37:06Z</dcterms:modified>
  <cp:revision>44</cp:revision>
  <dc:subject/>
  <dc:title>Slide 1</dc:title>
</cp:coreProperties>
</file>